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5C8-5F75-47A5-9B6E-49B3376A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C98-5D6C-4F0E-A146-35261454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24939-45D7-48B9-A57A-FC4F5EE1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E6D08-FAA9-432B-9483-A9609A2E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879A9-276E-461F-96B4-78954A1C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B5121-1F8D-4AD7-A0DE-87B64EC1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A90BC-24C4-44B3-AD4C-9840C630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AAC7B-5C1E-4804-BF8E-AE369DAC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02577-9479-4A7E-93F3-076BBF44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8AF23-DFFE-4873-8008-553D5662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13629-2D3F-40AF-ADB2-EA452F38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40B0B-4E8A-492D-819C-4CAB02F7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90F4-2403-43C9-B7F0-6BFE17C5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5EF8F-E4B7-4389-9B22-29774562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7D072-F7AF-4CA1-9836-B76B4929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9AFEA-E52C-4AEA-8C73-37100546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6659E-606E-4DB6-9210-931814A3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995C9-6EB4-4CD4-8021-EEFAC4B5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5E4A6-FEB8-431C-9E4E-D4BFCEB3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B3C0F-0940-4B4D-BFFF-12CE35ED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9FD3A-8B73-47BA-8821-CFD97D2E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AA3AB-194A-4121-9EC8-0E3AF9A8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DFABF-A65B-40D8-A5C7-6FE69D24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42B-B4FD-428A-B9B5-9683F881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506F7-BB9C-400B-9676-BF1D9C8A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3C789-6602-4887-B8B4-C20CD483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F1BB8-1338-48D8-B947-003680D0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FAB11-8983-4851-BB82-BA37E587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3DD66-4B39-4EAB-BBF0-C14E39AC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34A31-436B-4366-8BEE-C111A379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0ABAA-937F-4032-AD8E-EE961D83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8E8C7-716B-495B-8E52-62CB5BC8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C9D07-46DD-4DE3-AE24-3FA400C6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C4980-D52E-4420-B58D-E4A7F8EF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6F53-4959-4D72-AF5B-4DE7C5EE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159F7-F8EB-4B3E-80D7-7D5FEC2C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36AD6-5998-4B0C-8850-7410DC1C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EA1A9-BD99-411B-934A-7E6CA4B5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28C42-2AAE-483F-9760-6A9F60A6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8080A-73E4-41BD-BC4C-7EFB5BA6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22BB3-85B5-46D2-8C9C-CD8BF87F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F0C52-E931-4882-B18D-B7CDE86B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9B032-4914-48E0-9B8D-51FA3EBD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EF341-99CB-4A20-93C2-7A6B5948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A125B-FE08-4766-BEAE-73D55CF4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DACD-CE2B-46E7-B12F-ADDF35A1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7CAB7-03DB-4A0B-A14B-473BA772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E5372-D519-4C24-9913-EEDF7325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F967C-DC88-4F3F-B7EA-79E1F316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58420-88F8-43A8-B636-7D157129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4FF7C-A7F0-48C6-A032-D69D1588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ECA01-7329-458C-8911-0E76BD91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3C911D-3523-431A-BC51-E0A5DC42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895E0-3302-4C19-9B3D-09CBC775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2FEFF-0DFA-43E5-B9B1-FEC67A7B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523F7-8B86-4E4B-B6DE-9D7F47AD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F576-849A-4F7E-8053-EC06E196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0B215F-6144-4CE3-92F8-14F6237B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E9D60-8897-4466-864C-4C1694C2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80962-27DC-4E97-9ACA-FB2D33A6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DE37C-8114-41B9-82C9-2396D4BE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C4FA7-5E32-435A-8E23-F2C8CD8A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6959F-480B-45A2-866C-54CCF084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2903DE-29D3-4A3D-8BF0-7FD6847A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DB461E-E426-4CDE-84CB-C311042D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24B62B-F826-40E7-8064-56CA791F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2C1B40-D5CB-4CDC-891B-9549D594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87CB-5444-45AC-9409-95335F7B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F9150F-1EF3-477E-B104-29E2F7D3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D2901-70F7-4CD0-9A15-F06D10DB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D1047F-ADEA-482B-867C-1B4D5DC4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7CD5ED-A019-45E1-B297-DF844005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E0D674-D56E-4041-9BF0-DA5143DB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527482-CB5E-4C82-9AD4-E69DF06A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DD7509-2E33-4F80-9E7B-C0D6BB46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30E3A8-EA86-416B-B16C-7488CF77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F5C627-404D-431B-951D-C061D35D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0041B6-D705-49F9-B86E-BCC7C900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211C-1EF5-4F48-BC1F-BE15E5CA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77E8D6-26B1-4502-8AED-821D524D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B23396-AA6E-42AA-AD50-D456035D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B1B847-BF91-4F20-AD60-CAA61928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88A23F-AE6D-4990-B07E-2D9A55B0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7A7F32-D757-42AC-886F-D6AE9E26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DD4A31-433E-4146-8D7B-485F2CA5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F87BBC-99A3-4B97-A9AB-6C9349AE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9ECB8-702D-4E3E-B14A-3711AACA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E3C91C-E3B9-49D6-9489-78A6CA7D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F748CC-1223-4030-BAEE-9FDA61C6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FD81-D9F2-4951-B13A-90970641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20F5C3-52B2-477E-AF37-AC7C8899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7DDA7F-10AD-4EE9-8B5D-5F74AA33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6A0F04-FAB6-46D4-8BFF-91F1AF09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832DB1-3843-46DC-AA12-5E811F98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5C3E96-B367-4006-A136-6F9B6F0A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47D48-ACAA-411D-A43B-175E991D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A92EC9-3460-4683-87A3-F76FE35B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A902D6-C76E-4257-A309-AD7EC5FF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45063C-33E3-434F-858B-ED7AA5E4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6995DA-8546-46E3-B682-FFC89D6F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C42E-D014-47DA-AF5B-F1B56F93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509225-A28C-4D47-B02F-264EA7CA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BA1706-484B-4EF3-975A-662411C3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A137D-67FC-4B86-A6D3-05065D73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7D5285-9AF8-40C5-93BE-A3B79DC2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D65DD9-52F3-406A-97DF-F17071A7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B02CA8-D276-4AC5-9078-B459E1FF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28B2BE-121F-4C28-AA34-90A2BD42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D56CF5-3C2E-434D-A399-EEC67311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045D48-8DEE-4C6A-9862-11E1DB66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910FBC-F1F3-4D25-A128-112EBDF0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4BD4-1FD3-46C1-BAD0-DC882D0F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504E-673F-4E34-9F71-4D1D501A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245593-67EB-4925-8695-06EEB245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6A3CCE-181E-4FC5-94EE-340E008B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8A0DD7-C878-4DE8-9115-04C4AF8E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136EE7-BD11-44BB-B214-0DA29EE1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03D77D-1B90-4B52-925E-46F96618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D576B7-E7B3-4A4F-B7D6-3EEC1B89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D5CB42-2178-430B-ABD7-863E81F6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5A0ADD-9CE6-4CDE-9183-7CE1D664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3D9D96-B130-498F-9945-1037E041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895A01-BB66-4840-AEB0-11D46F67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4952-3282-425B-B7B4-D3FA33ED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F3BE47-CF74-46C8-9309-D4182483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B7F40B-00D4-49CF-A952-763623CF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864884-5227-425A-B7D7-EBB5C0D5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475C16-EE4F-4C24-99B8-B55C7471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070A30-D46E-4B42-9151-89410872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717C2B-01FD-4E9D-8BDE-4C20208E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D22D80-498A-422E-B7A1-A07336EB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653162-FD2E-4419-87B8-71AA129B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838B84-40EB-4021-B772-9A4EB459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040DF9-0D02-4E34-BE05-857C7269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82A6-23C3-4A66-A705-379240C3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53C3D3-EA33-4F9A-9C62-00CB41CE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5942B3-1175-44A2-AF4B-C4221CC6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5F0974-1503-4F2F-8F6A-17E4DD04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FD34B0-7C19-4163-9865-AFE019AE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2244AC-29D8-4119-9200-1A489B2D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D2D1C6-1369-4DEE-8BA9-2BAD7431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B81EA9-674B-429F-8AF9-D4AD76D1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1BF2C3-FCD1-4ED4-90B3-2D91EA5B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9AF0B9-06D6-40B2-BF76-BD70B0F6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D4A262-2889-4395-90E5-8920355F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9688-A0AA-49D0-88F4-37D7CC15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9BF462-EE1A-4172-891B-F5F0460B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D7A834-1622-4AFD-8496-EE78CB69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089932-101A-461B-B3D9-BC0F6EDE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BED8C5-CDD0-428A-A9FB-059BC8F5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426CF2-101E-4F16-8C13-34B15D5C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455E26-3063-40F8-AE63-A82A5CD9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B1DBC9-BC71-45AE-85C9-7287C5A2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BA9B06-2F60-494A-BA03-965A54F0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693831-E49C-4B04-A4E3-45470BFC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99D25B-A71F-4003-A715-59D514BA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DA38-D906-41E8-8898-324BE13E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6DFED1-5536-4970-8249-8338DCA6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9E0C9B-3B6E-46E7-9DB4-62CFB218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02BDF3-0459-4C45-B5B7-9B0B6A1E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5E724E-D45C-4CDD-8491-33CE3E4B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99FD9D-17FC-42E8-AE2A-E397CDF0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B71A8D-9687-4119-978F-012AB08E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6C1FC5-BE0F-40A8-9F37-77473D71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522EF0-2028-4E99-AA2B-0E091B28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C72729-9AD5-42C5-ABCC-9CEE050C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4A283A-040C-49BD-8499-54CBF7A5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EC718-3FE9-4C38-B184-E531FECE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D655EB-798D-4BCF-B8A0-AF83BACD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DDBAE2-7DFF-46DA-BC4D-A1E2C1B4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0007E6-E293-4A90-9A55-BD8158B2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68DF4-AFF6-4680-BA27-07164622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3C5EA-CDDE-4CD4-B09B-E0B9F5B4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36CCA-C61D-4152-B16E-B0A4FAF0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7FD1F-974F-4DF2-8B47-D849164A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9C2-9258-4A5D-9D13-BE3F2BAD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48026-4E57-431C-9426-5083B4A0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410AD-0C85-46B7-9396-630D7429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6EB4D-3340-4393-BFE6-C3E83239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1DAAC-B429-4FCC-99FA-6528B57F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A630C-3CEE-4D77-AC3E-04D854E3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EE2CF-C0D7-48E2-9A62-C1705AAF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BD61E-A93E-4660-9477-2795DC02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9D26F-9DCD-4A21-A05D-F1BCB8B7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CBE96-9CA4-4ED7-ACA1-D105F720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D4193-B824-4D9E-9306-52B964A7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6C29-4971-4B75-A611-25959987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7E356-645C-4A8B-AACA-79EA3E72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60A38-6350-4B78-A2B2-C0F408A6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1F8E8-20DB-4012-A8D8-B7636496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A02B2-8EE7-418F-A419-5695DF9A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DDBD5-63DD-400A-A756-66732B20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A9518-7979-4F39-A59D-B047B7E3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4A940-13EE-478D-8FAF-0693E7E0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8D451-494E-4F7F-80A9-2C803808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52F68-D753-4B15-9F5C-81951C9F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2DF24-DCC6-4293-90EC-CC59D6CB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05B-F912-4C40-9A80-98044720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61AA9-3EB3-42E0-96D7-63AE42A9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C655C-946D-4859-8895-B6B01EA8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855C2-2EE7-4CD7-B010-A8667364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17EDA-F9E9-4381-A48A-A1E64655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44D23-736C-41B5-A4ED-3B91867E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B3C66-633F-4252-BCB8-EBA004EA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83710-456C-47BB-9226-A701E9A0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5A34C-B897-4D43-8614-45656885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79F08-52F0-42F7-A2BD-EBBD8B88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8A2F3-31CA-4C3A-9805-DB0C9C8B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FD30-8C7E-4726-A9AC-63FCAB1A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A84CD-8E6B-4863-99E5-EB4DBE5F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73764-2895-4C9A-A933-92B9CE75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C388E-39F7-49A2-B41A-90E9DDF9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6C9BB-2C5D-4541-BB90-8F8B6A0F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34196-DE99-4968-8836-8E03A50F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36F7E-DABC-46EE-81D7-A7F545E1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E49B8-066B-499A-88E4-87A16F1B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4A61A-7A2E-415C-88EA-F49AD435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2603F-6DBE-4A7E-A6AF-3A8D8F03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3CADB-6015-46F2-B166-EF106C99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85DE-F577-4D56-9E9C-3C2911D5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8783B-0DC1-4F78-ABC9-35D1CE8E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00684-3C25-44FC-81F6-4FDA1FC5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6FFD0-8ACB-4E26-B139-4CF7BC1C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5C928-25D1-43C5-8F5A-E17E6080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672B8-432C-4C97-A5D3-B396183D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36EF9-7FDB-42D3-9C28-6E75FE7C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42FE7-4886-4BB7-8205-19EE4E1C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65810-ACDD-4BBC-8E4B-A3AA9AAD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0387B-F37D-463C-90C8-AECB9AF6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4FF90-1FC2-4CA7-8DE2-C41D5FEF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477A-5894-4319-AE5A-2991152F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4E067-903A-4EF8-AB19-37C5EA6B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F7E8C-90B6-4C15-863F-D0905E8F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8D306-8B42-4CD0-9529-5CABFA76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57D59-C677-4DCE-8860-59FF9787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B9CA8-4551-4E3C-BABB-2D30067A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1CA84-086E-450D-AD55-4AF06D54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08657-FD97-4FB5-99B3-00CA10ED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6A7AE-56CF-4A7B-96B3-62775E17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76A0E-1D72-4984-AFB9-8B9B75F0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38F1F-C5C6-4580-970C-FF7E797D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405-CBB2-4699-B8AF-1B08EE5D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797A7-624E-4F1A-ADB7-97E64777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CD709-DAB5-4AD6-BD66-D2D4B9BE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410B6-6B98-47AD-8964-275DC08A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3431F-4893-4D94-A5C2-24BDB710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080D2-3914-4F29-9511-FC77207F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71BEA-EF95-4908-9988-5869447B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2BFDB-9F18-4F4C-8E01-A3BC79D3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22C26-6F1B-4D32-970C-8D2D862A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1903B-0160-4E5E-BA5E-6FF1ADDB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69080-5C11-45FD-97CD-4FB19C0A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8A4B-229C-41F1-AFA0-6E05C7F10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14F6-AB7F-49F0-B04A-510A28C8E7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A934-2708-4434-9B7B-CD4F62A8A8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93B5-F630-42A4-B822-B303746224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0269-B8C9-48CD-BF89-1941829CD3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92EA-5DD2-441D-9051-9647DA7833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5D6B-E7C8-4285-A62A-CC46903DF8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FAAE-42EC-432B-8767-C1CF88B297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181B-D30E-48E6-A8AB-8B5B779B25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3576-E888-4317-84D2-6AD29BF1FB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1808-2BEA-4726-971D-9D87A670E0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F5E3-3269-43AB-AE38-567D768ABD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E158-E218-4910-9B56-5DAAB0C39E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BB0C-3526-479B-AF41-EAEA5DF1AA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20C3-97CF-4A69-BD52-80A5CA52B9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40FC-063B-4416-BF96-A8A88D76DF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D26C-B288-4A09-A193-03A7E7ED0D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4E52-66DA-4888-A7DE-24C191AAD4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B5C4-6847-430E-A098-D5FB404C18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8CB2-314E-419A-B270-F9DCA7B1A9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BF60-7097-48C8-84E1-D418A0A952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6040-50DE-44B4-94CB-6ECB179984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45A2-368D-44AA-96B4-11B0AC77B5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B83D-F73F-41D1-8CC8-23A5F5DCB4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4001-CF3D-4857-A1A8-DCF3394988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AECD-D6AE-473A-8D72-47B43314DD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0FBC-978B-4FA8-802C-FC5DB5EA4E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29B3-65A0-4490-882E-A6CB4AFCA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4DE1-2EF5-4CD5-8C65-D59236D943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C467-1496-45A2-A7E3-AFF81F3664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FA83-50A8-45EF-BAD1-584B0F1101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6D9E-3AAF-4E24-B8A1-B767BC9F80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E75E-496E-491A-B125-231FFBD6B5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E8AB-A135-4146-AC2A-F8560AB2A1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CADF-16D9-4582-9DE8-BF23B3160A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BE27-32C7-49D1-A6C7-7205985A04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1CD7-CD5D-48F5-AE6F-4EB87A230E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E737-CA04-4620-91E6-4134DD629B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3983-778B-4609-99C5-D759EE56DF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F57B-DD16-4060-8EA4-CB762A265B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74520" y="2482920"/>
            <a:ext cx="89949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90440" y="2152800"/>
            <a:ext cx="8763120" cy="2552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187280" y="2708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87280" y="3213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187280" y="3716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187280" y="4221000"/>
            <a:ext cx="43200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490680" y="1128600"/>
            <a:ext cx="8161200" cy="46008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1476360" y="1700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476360" y="2708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1476360" y="3716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1476360" y="47242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654120" y="773280"/>
            <a:ext cx="7837560" cy="58482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5940360" y="1341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1692360" y="2781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5867280" y="278136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923760" y="1890720"/>
            <a:ext cx="7296480" cy="30765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1908000" y="2997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1908000" y="2492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1908000" y="4005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1908000" y="350028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6"/>
          <a:stretch/>
        </p:blipFill>
        <p:spPr>
          <a:xfrm>
            <a:off x="1908000" y="450864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5:19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